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D576-3D73-49BA-A4D3-5E1F2C4BE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2B78-6BA2-4A0E-A2F9-36949C273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84E1-F164-4D70-8EF6-A1F08DE63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07CE-7282-4408-8114-98B5209A25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FF9F-7347-4B2F-867B-BD35405D78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69A5-9E6D-4C64-8528-5109862E3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3A6D-3766-4C32-891C-DD89F309E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D8EC-20C6-4742-83DF-E49F9F8D3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7A91-4E30-4231-9937-31E8E5407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F699-27EB-4BE2-B782-6BA7C1E76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4319-0F63-4478-8D5F-F0E0E3461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270F-CC52-4A44-93BC-03C6B2AA3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O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2F536194-FC50-4C96-8BC2-DC6D69A7F2F2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153200" y="6613560"/>
            <a:ext cx="19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Comic Sans MS"/>
              </a:rPr>
              <a:t>© 2006 Fraunho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klasse.nl/english/research/octopus-intro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A presentation of OCL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2"/>
                </a:solidFill>
                <a:latin typeface="Comic Sans MS"/>
              </a:rPr>
              <a:t>Object Constrain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Fraunhofer FOK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840" y="6327720"/>
            <a:ext cx="1511280" cy="5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B8CC-7F68-4E6D-B726-11ABD9D7A68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1960" y="128520"/>
            <a:ext cx="806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lation to the UML Model 2 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4960" y="1058400"/>
            <a:ext cx="8143920" cy="53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nstraint is an element of the UML2 metamodel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2" marL="1005840" indent="-2008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part of the Kernel-Packag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005840" indent="-2008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Describes additional semantic of one or more model elements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005840" indent="-2008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Language is not predefined: natural language, OCL, Java etc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005840" indent="-2008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The „Owner“ of a constraint determines the time of the constraint evaluation (e.g.: Owner: Operation, time of the evaluation : pre or post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005840" indent="-2008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Constrained Elements: set of elements referenced by the Constraint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31920" y="2424240"/>
            <a:ext cx="8570880" cy="20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7745-3135-4F8C-BF11-6D993BB14E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7560" y="14292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lation to the UML Model 3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4920" y="939960"/>
            <a:ext cx="78246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66"/>
                </a:solidFill>
                <a:latin typeface="Comic Sans MS"/>
              </a:rPr>
              <a:t>Value Specifica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Comic Sans MS"/>
              </a:rPr>
              <a:t>In case of OCL: Expression with Language == „OCL“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1200" y="2154240"/>
            <a:ext cx="8381880" cy="374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42B5-286F-4DAF-8957-E6064303D59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7040" y="128520"/>
            <a:ext cx="806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lation to the UML Model 4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0240" y="124884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CL notation in UML mod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nstraint ::= ‘{‘ [ &lt;name&gt; ‘:’ ] &lt;expression&gt;’ }’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may follow the element directly (e.g. Attribute)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may be placed near the symbol for the element, preferably near the name, if any (e.g. Association End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may be shown as a dashed line between two elements (if a Constraint applies to two elements) labeled by the constraint string (in braces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may be placed in a note symbo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B8B0-3E02-404A-AB32-6E5DFE0B385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9400" y="12852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Stereotypes (Constraint types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63480" y="2259000"/>
            <a:ext cx="7824960" cy="37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Courier New"/>
              </a:rPr>
              <a:t>inv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invariant: constraint must be tru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for all instances of constrained type at any tim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nstraint is always of the type Boolea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Employee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nv: self.age &gt; 18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Employee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nv age_18: self.age &gt;18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c : Employee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nv: c.age &gt; 18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1279440" y="1738440"/>
            <a:ext cx="268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75080" y="1065240"/>
            <a:ext cx="2362320" cy="109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BC21-263F-4D45-9EFB-F243321ED88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9880" y="152280"/>
            <a:ext cx="806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Stereotypes (Constraint types)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0440" y="2158560"/>
            <a:ext cx="791532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50021"/>
                </a:solidFill>
                <a:latin typeface="Courier New"/>
              </a:rPr>
              <a:t>pre</a:t>
            </a: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 precondition: constraint must be true, before execution of an Operation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50021"/>
                </a:solidFill>
                <a:latin typeface="Courier New"/>
              </a:rPr>
              <a:t>post</a:t>
            </a:r>
            <a:r>
              <a:rPr b="0" lang="en-US" sz="23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postcondition: constraint must be true, after execution of an Operation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self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refers to the object on which the operation was called 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designates the result of the operation (if available)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The names of the parameters can also be used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Employee::raiseWage(newWage:Integer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re: newWage &gt; self.wag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ost my_post: wage = newWag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193920" y="906480"/>
            <a:ext cx="2362320" cy="109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8DCB-D268-467B-BC83-5A350B81E05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9400" y="14292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Stereotypes (Constraint types) 3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3080" y="919080"/>
            <a:ext cx="8434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50021"/>
                </a:solidFill>
                <a:latin typeface="Courier New"/>
              </a:rPr>
              <a:t>body</a:t>
            </a: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 specifies the result of a query operation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The expression has to be conformed to the result type of the operation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Employee::getWage() : Integer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body: self.wag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50021"/>
                </a:solidFill>
                <a:latin typeface="Courier New"/>
              </a:rPr>
              <a:t>init</a:t>
            </a: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 specifies the initial value of an attribute or association end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Conformity to the result type + Mulitiplicity 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Employee::wage : Integer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nit: wage = 900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50021"/>
                </a:solidFill>
                <a:latin typeface="Courier New"/>
              </a:rPr>
              <a:t>derive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specifies the derivation rule of an attribute or association end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derive : wage = self.age * 50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50021"/>
                </a:solidFill>
                <a:latin typeface="Courier New"/>
              </a:rPr>
              <a:t>def</a:t>
            </a: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 enables reuse of variables/operations over multiple OCL expressions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Employee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def: annualIncome : Integer = 12 * wag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51800" y="2484360"/>
            <a:ext cx="2043000" cy="11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FA07-0503-4F74-A388-FB6AC99994E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7560" y="13644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OCL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9080" y="1252440"/>
            <a:ext cx="782460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CL 2.0 has (of course ;-)) MOF Metamod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Metamodel reflects OCL‘s abstract syntax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Metamodel for OCL Typ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CL is a typed languag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ach OCL expression has a typ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OCL defines additional to UML types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3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CollectionType, TupleType, OclMessageType,….</a:t>
            </a:r>
            <a:endParaRPr b="0" lang="en-US" sz="1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Metamodel for OCL Express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defines  the possible OCL expression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B465-0749-41D0-AE82-3F481BF7020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3440" y="90000"/>
            <a:ext cx="80647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OCL Types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12840" y="1271520"/>
            <a:ext cx="7959600" cy="492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4D95-912E-4390-A0CC-E325F55B512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3400" y="14436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OCL Typ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49000" y="977400"/>
            <a:ext cx="8219880" cy="539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ll Classifier within a UML model, to which OCL expression belongs, are typ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OCLModelElementTyp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.g. for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oclIsKindOf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llection Typ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re not defined in the Metamodel, exist only implicitly, if they are used (otherwise, infinite since recursive application possible)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llectionType is abstract, has an element type, which can be CollectionType agai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et: contains elements without duplicates, no ordering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Bag: may contain elements with duplicates, no ordering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equence: ordered, with duplicate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OrderedSet: ordered, without duplicate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08A5-332A-43B0-BA2C-35D1B5F1153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5640" y="9828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OCL Types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085400"/>
            <a:ext cx="8289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upleTyp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s a Struct (combination of different types into a single aggregate type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Has Attribute with a name and a typ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CLMessageTyp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s used for an access to messages of  an operation or signal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tatements about the possible sending/receiving of signal/operation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VoidTyp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Has only an instanc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oclUndefined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s conform to all type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F169-9A2A-4242-8D8F-6D41E9F2518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xt of this wor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present courseware has been elaborated in the context of the MODELWARE European  IST FP6 project (http://www.modelware-ist.org/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-funded by the European Commission, the MODELWARE project involves 19 partners from 8 European countries. MODELWARE aims to improve software productivity by capitalizing on techniques known as Model-Driven Development (MDD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o achieve the goal of large-scale adoption of these MDD techniques, MODELWARE promotes the idea of a collaborative development of courseware dedicated to this domai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DD courseware provided here with the status of open source software is produced under the EPL 1.0 licens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49" name="" descr="www.modelware-ist.org Forum 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5240" y="247680"/>
            <a:ext cx="483876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52BF-4176-42F0-BC7E-3D583E13123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0120" y="128520"/>
            <a:ext cx="806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OCL Expression Metamodel – Basis eleme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5160" y="747720"/>
            <a:ext cx="7634520" cy="562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169F-5496-43AE-A361-B16A3C9739D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3560" y="9828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Basic construc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77796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mic Sans MS"/>
              </a:rPr>
              <a:t>Let, If-then-else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nnualIncome : Integer = wage * 12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self.isUnemploye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nnualIncome &lt; 5000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nnualIncome &gt;= 5000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ndif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mic Sans MS"/>
              </a:rPr>
              <a:t>Standard Library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milar to C++, Java, mostly template-based defined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Primitive Types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Integer, Real, Boolean, String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Operations: +, -, min(), max(), concat()..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llection Types, described as Parameterized Classifier (Template)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Set&lt;T&gt;, OrderedSet&lt;T&gt;, Bag&lt;T&gt;, Sequence&lt;T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Operations: size(), includes(), append()..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224F-4424-42AE-B069-F3AB5672115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5640" y="12852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omic Sans MS"/>
              </a:rPr>
              <a:t>Accessing objects and their properties</a:t>
            </a:r>
            <a:endParaRPr b="1" lang="en-US" sz="22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2040" y="760320"/>
            <a:ext cx="5913360" cy="572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43E8-D145-4DCB-BA29-C7B6763BB24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0600" y="98280"/>
            <a:ext cx="8310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ccessing objects and their properties (Features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7880" y="82980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tribute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elf.age &gt; 18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ion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may no have side effects (only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when?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allowed)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isQuery = tru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elf.getWage() &gt; 1000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ssociation end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allow navigation to other objects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result in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et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when multiplicity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&gt; 1 und uniqu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result in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OrderedSet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when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Multiplicity &gt; 1 and {ordered,unique}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elf.employer-&gt;size() &gt; 0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ccessing</a:t>
            </a:r>
            <a:r>
              <a:rPr b="1" lang="en-US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numerations with ´</a:t>
            </a:r>
            <a:r>
              <a:rPr b="1" lang="en-US" sz="2500" spc="-1" strike="noStrike">
                <a:solidFill>
                  <a:srgbClr val="a50021"/>
                </a:solidFill>
                <a:latin typeface="Comic Sans MS"/>
              </a:rPr>
              <a:t>::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´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Gender::mal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ccessing overridden properties with </a:t>
            </a:r>
            <a:r>
              <a:rPr b="0" lang="en-US" sz="2500" spc="-1" strike="noStrike">
                <a:solidFill>
                  <a:srgbClr val="a50021"/>
                </a:solidFill>
                <a:latin typeface="Courier New"/>
              </a:rPr>
              <a:t>oclAsTyp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context B inv: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elf.oclAsType(A).p1</a:t>
            </a: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-- accesses the p1 property </a:t>
            </a:r>
            <a:br>
              <a:rPr sz="1500"/>
            </a:b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-- defined in A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19CB-A3DC-493F-A5B0-1CF9F7BF615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7320" y="9828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Collections Operations (Iterations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15760" y="764640"/>
            <a:ext cx="78246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llections result from Naviga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CL allows elements of collections to be collections themselv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ultiplicity of navigated Features determines the Collection typ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ollection Operations: different constructs for enabling a way of projecting new collections from existing on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ollection Operations do not change the mod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fined Oper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elect/Rejec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ollec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ForAl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ist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terat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5E0A-A641-488E-AB06-EDE31790963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9640" y="1062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Collections Operations (Iterations)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0800" y="941040"/>
            <a:ext cx="86166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Courier New"/>
              </a:rPr>
              <a:t>select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1" lang="en-US" sz="2500" spc="-1" strike="noStrike">
                <a:solidFill>
                  <a:srgbClr val="a50021"/>
                </a:solidFill>
                <a:latin typeface="Courier New"/>
              </a:rPr>
              <a:t>reject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specify a subset of a collec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(result: Collection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Company inv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elf.employees-&gt;select(age &lt; 18) -&gt; isEmpty(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pression will be applied to all collection elements, context is then the related element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omplete syntax: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llection-&gt;select(v : Type | boolean-expression-with-v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llection-&gt;select(v | boolean-expression-with-v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llection-&gt;select(boolean-expression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2737-A685-40DF-9D66-715707093A7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480" y="9828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Collections Operations (Iterations) 3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160" y="820800"/>
            <a:ext cx="852660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50021"/>
                </a:solidFill>
                <a:latin typeface="Courier New"/>
              </a:rPr>
              <a:t>collect</a:t>
            </a: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 specify a collection which is derived from some other collection, but which contains different objects from the original collection (result: Bag)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elf.employees-&gt;collect(age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-- returns a Set of Integer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mplete syntax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llection-&gt;collect( v : Type | expression-with-v 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llection-&gt;collect( v | expression-with-v 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llection-&gt;collect( expression 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horthand nota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elf.employees.ag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pplying a property to a collection of elements will automatically be interpreted as a 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collect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over the members of the collection with the specified property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9E16-187A-4844-939C-8922BC424FD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9880" y="106200"/>
            <a:ext cx="806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llections Operations (Iterations) 4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2600" y="841320"/>
            <a:ext cx="849456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forAll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specifies expression, which must hold for all objects in a collection (result: Boolean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elf.employees-&gt;forAll(age &gt; 18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llection-&gt;forAll( v : Type | boolean-expression-with-v 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llection-&gt;forAll( v | boolean-expression-with-v 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llection-&gt;forAll( boolean-expression 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an be nested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ntext Company inv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elf.employee-&gt;forAll (e1 |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elf.employee-&gt;forAll (e2 |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e1 &lt;&gt; e2 implies e1.pnum &lt;&gt; e2.pnum)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exists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 returns 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rue if the expression is true for at least one element of collection (result: Boolean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46D4-77D1-4237-9F78-7E8F7A5872B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2200" y="128520"/>
            <a:ext cx="806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Collections Operations (Iterations) 5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979200"/>
            <a:ext cx="845028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iterate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is the general form of the Iteration, all previous operations can be described in terms of iterate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llection-&gt;iterate( elem : Type; acc : Type = &lt;expression&gt; | expression-with-elem-and-acc 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lem is the iterator, variable acc is the accumulator, which gets an initial value &lt;expression&gt;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llection-&gt;collect(x : T | x.property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-- is identical to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llection-&gt;iterate(x : T; acc : T2 = Bag{} |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cc-&gt;including(x.property)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A157-3887-49AB-B8E0-78EEDDFDA69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122040"/>
            <a:ext cx="806436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Predefined Opera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4960" y="833400"/>
            <a:ext cx="84265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OCL defines several Operations that apply to all object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oclIsTypeOf(t:OclType):Boolea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results is true if the type of self and t are the sam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ntext Employee inv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elf.oclIsTypeOf(Employee) -- is true 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elf.oclIsTypeOf(Company)  -- is fals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oclIsKindOf(t:OclType):Boolea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determines whether t is either the direct type or one of the supertypes of an object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oclIsNew():Boolea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only in postcondition: results in true if the object is created during performing the operation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oclIsInState(t:OclState):Boolea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results in true if the object is in the state t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5258-4B97-4DA7-8C8F-BF9EC037107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560" y="120240"/>
            <a:ext cx="80643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Overview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Motiva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ntroduction and short History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pplying OC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Relation to the UML Metamode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Basic type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Objects and their Propertie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llection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Message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ool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E993-E8D4-4262-84DD-21CA6A13BAE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122040"/>
            <a:ext cx="806436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Predefined Operations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4280" y="1085400"/>
            <a:ext cx="838836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Courier New"/>
              </a:rPr>
              <a:t>oclAsType(t:OclType):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esults in the same object, but the known type is the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OclTyp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Courier New"/>
              </a:rPr>
              <a:t>allInstanc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predefined feature on classes, interfaces and enumeration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esults in the collection of all instances of the type in existence at the specific time when the expression is evaluated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Employee inv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Employee.allInstances()-&gt;forAll(p1, p2 |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1 &lt;&gt; p2 implies p1.name &lt;&gt; p2.name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C7B8-E7DF-4EB9-B284-AEEF9390D5B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040" y="98280"/>
            <a:ext cx="806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roperties in Postcondi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6200" y="1085400"/>
            <a:ext cx="8326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n a Postcondition property values can be accessed at two time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value at precondition time (before operation execution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value after operation execu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1" lang="en-US" sz="2500" spc="-1" strike="noStrike">
                <a:solidFill>
                  <a:srgbClr val="a50021"/>
                </a:solidFill>
                <a:latin typeface="Comic Sans MS"/>
              </a:rPr>
              <a:t>"@pre“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mark can be used in a Postcondition to refer to properties of the previous stat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Employee::birthdayHappens(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ost: age = age@pre + 1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562B-7332-498C-B56E-E3749C418B5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13644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Old values in Postcondi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7560" y="1215720"/>
            <a:ext cx="75042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f the property (accessed with @pre) is an object, then all further accesses refer to the new valu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a.b@pre.c -- takes the old value of property b of a, say x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-- and then the new value of c of x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f the object is destroyed, the access result to the current value is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oclUndefined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f the object is created, the access result to the old value is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oclUndefined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FEDB-E058-45FA-A4AF-1E0D20055D3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2320" y="12852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Messag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7040" y="887040"/>
            <a:ext cx="8069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New in OCL 2.0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Operator hasSent (‘</a:t>
            </a:r>
            <a:r>
              <a:rPr b="1" lang="en-US" sz="2100" spc="-1" strike="noStrike">
                <a:solidFill>
                  <a:srgbClr val="a50021"/>
                </a:solidFill>
                <a:latin typeface="Comic Sans MS"/>
              </a:rPr>
              <a:t>^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’) is used for specifying that during the execution of an operation communication has taken place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ntext Subject::hasChanged(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post: self.observer^update(8, 15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rue if an update message with arguments 8 and 15 was sent to observer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update()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is an Operation or a Signal defined in the UML mode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If the actual arguments of the operation/signal are not specified, operator ‘</a:t>
            </a:r>
            <a:r>
              <a:rPr b="1" lang="en-US" sz="2100" spc="-1" strike="noStrike">
                <a:solidFill>
                  <a:srgbClr val="a50021"/>
                </a:solidFill>
                <a:latin typeface="Comic Sans MS"/>
              </a:rPr>
              <a:t>?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’ can be used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Extra: Type declaration, in order to be able to address operations exactly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ntext Subject::hasChanged(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post: observer^update(? : Integer, ? : Integer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3B07-AF98-477D-AD06-5F111D4450D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9640" y="14436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Messages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3360" y="1115640"/>
            <a:ext cx="81136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Message Operator ´</a:t>
            </a:r>
            <a:r>
              <a:rPr b="1" lang="en-US" sz="2100" spc="-1" strike="noStrike">
                <a:solidFill>
                  <a:srgbClr val="a50021"/>
                </a:solidFill>
                <a:latin typeface="Comic Sans MS"/>
              </a:rPr>
              <a:t>^^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´  results in the Sequence of messages sent (each element in the Sequence is an instance of 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OclMessage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type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Afterwards access to the parameters of the sent Operation/Signal with the formal parameter names of their definition is possible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os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: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e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essages : Sequence(OclMessage) = observer^^update(? : Integer, ? : Integer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essages-&gt;notEmpty()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nd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essages-&gt;exists( m | m.i &gt; 0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n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.j &gt;= m.i 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EB2B-4950-4AC2-B00D-4BACB82E1FD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3400" y="1062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Messages 3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360" y="933120"/>
            <a:ext cx="82756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Access to an operation return value (if the sent message is an operation call) is possible with </a:t>
            </a: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message.result(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message.hasReturned()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results true, if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operation has already returned (asynchronous operation call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context Person::giveSalary(amount : Integer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post: let message : OclMessage = company^getMoney(amount) i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message.hasReturned() -- getMoney was sent and 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returned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and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message.result() = true -- getMoney call returned 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true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0481-89FB-42D7-AC6E-49F76ACCFBE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3400" y="1062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ips &amp; Tricks to write good OCL 1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8400" y="933120"/>
            <a:ext cx="88074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Keep away from complex navigation expressions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 Membership does not have a loyaltyAccount if you cannot earn points in the program: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context Membership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inv noEarnings:programs.partners.deliveredServices-&gt;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forAll(pointsEarned = 0) implies account &gt;isEmpty(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text LoyaltyProgram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ef: isSaving : Boolean = partners.deliveredServices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-&gt;forAll(pointsEarned = 0)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text Membership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v noEarnings: programs.isSaving implies account-&gt;isEmpty()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3693960" y="3244680"/>
            <a:ext cx="473400" cy="486000"/>
          </a:xfrm>
          <a:prstGeom prst="downArrow">
            <a:avLst>
              <a:gd name="adj1" fmla="val 50000"/>
              <a:gd name="adj2" fmla="val 25665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8138-BDDB-44D4-BD57-70C4D816EBE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3400" y="1062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ips &amp; Tricks to write good OCL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1080" y="933120"/>
            <a:ext cx="881352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hoose context wisely (attach an invariant to the right type )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wo persons who are married to each other are not allowed to work at the same company: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context Person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inv: wife.employers&gt;intersection(self.employers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-&gt;isEmpty() and husband.employer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-&gt;intersection(self.employers)-&gt;isEmpty()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text Company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v: employees.wife-&gt;intersection(self.employees)-&gt;isEmpty()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4017960" y="4705200"/>
            <a:ext cx="473040" cy="486000"/>
          </a:xfrm>
          <a:prstGeom prst="downArrow">
            <a:avLst>
              <a:gd name="adj1" fmla="val 50000"/>
              <a:gd name="adj2" fmla="val 25685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47840" y="1590840"/>
            <a:ext cx="6494400" cy="112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901B-65AB-4963-9F3A-DE27371315B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3400" y="1062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ips &amp; Tricks to write good OCL 3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7360" y="933120"/>
            <a:ext cx="82756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24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void </a:t>
            </a:r>
            <a:r>
              <a:rPr b="0" i="1" lang="en-US" sz="2500" spc="-1" strike="noStrike">
                <a:solidFill>
                  <a:srgbClr val="cc0000"/>
                </a:solidFill>
                <a:latin typeface="Comic Sans MS"/>
              </a:rPr>
              <a:t>allInstances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ion if possible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esults in the set of all instances of the modeling element and all its subtypes in the system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problems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he use of allInstances makes (often) the invariant more complex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 most systems, apart from database systems, it is difficult to find all instances of a class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context Person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inv: Person.allInstances-&gt;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forAll(p| p. parents-&gt;size &lt;= 2)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text Person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v: parents-&gt;size &lt;= 2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4032360" y="4632480"/>
            <a:ext cx="473040" cy="485640"/>
          </a:xfrm>
          <a:prstGeom prst="downArrow">
            <a:avLst>
              <a:gd name="adj1" fmla="val 50000"/>
              <a:gd name="adj2" fmla="val 25666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EF91-15E9-4B62-BB8F-66B07CECF8B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3400" y="1062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ips &amp; Tricks to write good OCL 4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1240" y="682200"/>
            <a:ext cx="8777160" cy="58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plit </a:t>
            </a:r>
            <a:r>
              <a:rPr b="0" i="1" lang="en-US" sz="2500" spc="-1" strike="noStrike">
                <a:solidFill>
                  <a:srgbClr val="cc0000"/>
                </a:solidFill>
                <a:latin typeface="Comic Sans MS"/>
              </a:rPr>
              <a:t>and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mplicated constraint into several separate constraints 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ome advantages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ach invariant becomes less complex and therefore easier to read and write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he simpler the invariant, the more localized the problem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maintaining simpler invariants is easier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context LoyaltyProgram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inv: partners.deliveredService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-&gt;forAll(pointsEarned = 0) </a:t>
            </a:r>
            <a:r>
              <a:rPr b="1" lang="en-US" sz="2100" spc="-1" strike="noStrike">
                <a:solidFill>
                  <a:srgbClr val="cc0000"/>
                </a:solidFill>
                <a:latin typeface="Courier New"/>
              </a:rPr>
              <a:t>and</a:t>
            </a: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 Membership.card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-&gt;forAll(goodThru = Date.fromYMD(2000,1,1)) </a:t>
            </a:r>
            <a:r>
              <a:rPr b="1" lang="en-US" sz="2100" spc="-1" strike="noStrike">
                <a:solidFill>
                  <a:srgbClr val="cc0000"/>
                </a:solidFill>
                <a:latin typeface="Courier New"/>
              </a:rPr>
              <a:t>and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participants-&gt;forAll(age() &gt; 55)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text LoyaltyProgram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v: partners.deliveredServices-&gt;forAll(pointsEarned = 0)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v: Membership.card-&gt;forAll(goodThru = Date::fromYMD(2000,1,1))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v: participants-&gt;forAll(age() &gt; 55)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4098960" y="4691160"/>
            <a:ext cx="473040" cy="485640"/>
          </a:xfrm>
          <a:prstGeom prst="downArrow">
            <a:avLst>
              <a:gd name="adj1" fmla="val 50000"/>
              <a:gd name="adj2" fmla="val 25666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6DC7-53F4-4DC7-9F91-86BEB0D3E29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Motiva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Graphic specification languages such as UML can describe often only partial aspects of a system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nstraints are often (if at all) described as marginal notes in natural languag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lmost always ambiguou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mprecis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ot automatically realizable/checkabl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rmal Languages are better suitabl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65280" y="4651200"/>
            <a:ext cx="5638680" cy="91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0805-F31D-412A-9608-CCE9E97C9FD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3400" y="1062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ips &amp; Tricks to write good OCL 5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6960" y="890280"/>
            <a:ext cx="8777160" cy="58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Use the </a:t>
            </a:r>
            <a:r>
              <a:rPr b="0" i="1" lang="en-US" sz="2500" spc="-1" strike="noStrike">
                <a:solidFill>
                  <a:srgbClr val="cc0000"/>
                </a:solidFill>
                <a:latin typeface="Comic Sans MS"/>
              </a:rPr>
              <a:t>collect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horthand on collections!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context Person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inv: self.parents.brothers.children-&gt;notEmpty()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text Person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v: self.parents-&gt;collect(brothers) -&gt; collect(children)-&gt;notEmpty()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lways name association ends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ndicates the purpose of that element for the object holding the association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helpful during the implementation: the best name for the attribute (or class member) that represents the association is already determined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4157640" y="2317680"/>
            <a:ext cx="473040" cy="486000"/>
          </a:xfrm>
          <a:prstGeom prst="downArrow">
            <a:avLst>
              <a:gd name="adj1" fmla="val 50000"/>
              <a:gd name="adj2" fmla="val 25685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A66B-1CA2-4BF2-B443-C8674FE5826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1960" y="122040"/>
            <a:ext cx="806472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Tool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0240" y="96156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ome OCL Parser are available, which can check syntax and evaluate OCL expressions (IBM and others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resden OCL Toolkit 2.0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Generates java code from OCL Constraint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an be integrated into Argo/UML and its code generation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nstraints from the model are included into the program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LCI OCL Evaluator OCLE 2.0.4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upport for dynamic semantic validation: allows execution of OCL expressions directly from UML model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UML model checking against Rules defined at the metamodel level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FC36-C6D6-4724-B103-256A7699973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2200" y="106200"/>
            <a:ext cx="806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Tools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60120" y="1155240"/>
            <a:ext cx="78246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raunhofer OCLToo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Based on Kent OCL Library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Uses EMF librari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yntactic/semantic analyze and check of OCL expression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upports evaluation at runtim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upports any models based on EMF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dynamic and some static metamodels are supported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 this manner also UML2 models (EMF-based UML 2.0 Metamodel implementation)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bility to use it as query too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7B2B-3E41-4528-814E-385256EA5AB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5720" y="12852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Tools 3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raunhofer OCLTool (screenshot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heck OCL constraint against an UML2 mode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47920" y="2022480"/>
            <a:ext cx="4343400" cy="424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7C69-79D4-47C0-A1E0-D91D7B15179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2200" y="114120"/>
            <a:ext cx="806472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Tools 4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ctopus OCL (Eclipse Plug-In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equired Eclipse 3.0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nalyze and check of OCL expression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Java Code generatio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Works on UML model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upports XMI import (with limitations and workarounds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pen source software – distributed under a public (BSD) licens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klasse.nl/english/research/octopus-intro.htm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49C2-B07C-4C38-9D7D-4E7AAE9F3301}" type="slidenum">
              <a:t>4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Motivation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0360" y="812880"/>
            <a:ext cx="8278560" cy="55036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raditional formal languages (e.g. Z) require good mathematical understanding from user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pplying and distribution only in academic world, not in industry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hard to learn, to complex in applica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Problem: „large“ system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Object Constraint Language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(OCL) has been developed to achieve the following goal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formal, precise, unambiguou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pplicable for a large number of users (business or system modeler, programmers)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pecification languag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not a Programming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languag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ool support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6384960" y="5624640"/>
            <a:ext cx="1920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140520" y="4786200"/>
            <a:ext cx="2445840" cy="1358280"/>
            <a:chOff x="6140520" y="4786200"/>
            <a:chExt cx="2445840" cy="135828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6675480" y="4786200"/>
              <a:ext cx="114624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140520" y="5624280"/>
              <a:ext cx="2445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ourier New"/>
                </a:rPr>
                <a:t>context Employee inv: self.age &gt; 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109D-A5F3-45D9-8297-20A7B1EF1E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480" y="1062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History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7560" y="985320"/>
            <a:ext cx="782496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veloped in 1995 from IBM‘s Financial Divis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original goal: business modelling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surance department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derived from S. Cook‘s „Syntropy“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Belongs to the UML Standard since Version 1.1 (1997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CL 2.0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Final Adopted Specification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(ptc/03-10-14) October 2003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ligned with UML 2.0 and MOF 2.0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62160" y="4591080"/>
            <a:ext cx="2619360" cy="19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6AE1-7231-44D4-8921-08681EB44FA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9640" y="1350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Language featur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3800" y="909720"/>
            <a:ext cx="879156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pecification language without side effect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valuation of an OCL expression returns a value – the model remains unchanged! (even though an OCL expression is used to specify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 state change (e.g., post-condition) the state of the system will never change 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CL is not a programming language ( no program logic or flow control, no invocation of processes or activation of non-query operations, only queries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CL is typed language, each OCL expression has a type. It is not allowed to compare Strings and Integer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ach Classifier defined in model represents a distinct OCL typ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ncludes a set of predefined typ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he evaluation of an OCL expression is instantaneous, the states of objects in a model cannot change during evaluatio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E2F3-8456-48D8-8A0E-0363120B65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9640" y="1350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Where to use OC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nstraints specification for model elements in UML model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variant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Pre- and post conditions (Operations and Methods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Guard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pecification of  target (sets) for messages and action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itial or derived values for attributes &amp; association end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s „query language“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nstraints specification in metamodels (MOF) – MOF models are also models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64A5-1872-4B24-A3A7-5B5A59EA441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5480" y="1206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lation to the UML 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685960"/>
            <a:ext cx="803736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ach OCL expression is related to an instance of a model elemen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ntext declaration is used to determine the model elemen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 a diagram: dashed line to the element, which the defined OCL constraint refer to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a50021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Courier New"/>
              </a:rPr>
              <a:t>self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fers to the contextual instanc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28800" y="1035000"/>
            <a:ext cx="1066680" cy="755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79440" y="1738440"/>
            <a:ext cx="268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9960" y="1905120"/>
            <a:ext cx="237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ontext Employ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v: self.age &gt;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7AE3-F0E0-45F4-8DAF-2F8F86C28B0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David Touzet</dc:creator>
  <dc:description/>
  <dc:language>en-US</dc:language>
  <cp:lastModifiedBy>Kurtev</cp:lastModifiedBy>
  <dcterms:modified xsi:type="dcterms:W3CDTF">2006-07-17T11:34:11Z</dcterms:modified>
  <cp:revision>872</cp:revision>
  <dc:subject/>
  <dc:title>Models Manip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4204776</vt:r8>
  </property>
  <property fmtid="{D5CDD505-2E9C-101B-9397-08002B2CF9AE}" pid="3" name="_AuthorEmail">
    <vt:lpwstr>jean.bezivin@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ModelWare 4.6</vt:lpwstr>
  </property>
  <property fmtid="{D5CDD505-2E9C-101B-9397-08002B2CF9AE}" pid="6" name="_ReviewingToolsShownOnce">
    <vt:lpwstr/>
  </property>
</Properties>
</file>